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F2A-6690-4E21-994C-E7B747FF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C3E-A236-46C1-92FA-63933675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321-18BB-4120-96BC-8017A166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3E3-3F36-4FBE-87DB-F9C469B7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4B9-D6CB-4651-B9BF-68D36309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FF9-FE68-4FC5-9E92-19100B2A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DB1-62D8-40AA-BE27-EA284113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D4C-F4AE-4E4A-8CCA-49FFC1EC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C47-8491-42C1-8242-96DC00DF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88D-CF99-42E3-8D18-86B222AB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E7D-F4BA-46C5-8DFC-4BE20029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B7B-41FA-4FBF-A649-9C2366AD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2366-AFAE-4C92-B942-C8E1F6FF8E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5960" y="641520"/>
          <a:ext cx="11503080" cy="5068800"/>
        </p:xfrm>
        <a:graphic>
          <a:graphicData uri="http://schemas.openxmlformats.org/drawingml/2006/table">
            <a:tbl>
              <a:tblPr/>
              <a:tblGrid>
                <a:gridCol w="663840"/>
                <a:gridCol w="1371600"/>
                <a:gridCol w="1116000"/>
                <a:gridCol w="1265040"/>
                <a:gridCol w="1208160"/>
                <a:gridCol w="1036800"/>
                <a:gridCol w="1412640"/>
                <a:gridCol w="1149480"/>
                <a:gridCol w="1104840"/>
                <a:gridCol w="1174680"/>
              </a:tblGrid>
              <a:tr h="2728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Co2-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9SF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P5K1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HGAP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TM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LN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EM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7000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 inten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2860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3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st lu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3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ush border (B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204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ffuse sig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MP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&amp; basolater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ical microvi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e 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003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topic microvi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glig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topic junctions: ZO-1, E-cadher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olysosomes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j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sosomes (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67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6"/>
          <p:cNvSpPr/>
          <p:nvPr/>
        </p:nvSpPr>
        <p:spPr>
          <a:xfrm>
            <a:off x="1487520" y="243000"/>
            <a:ext cx="91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henotype description of CaCo2-WT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versus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TM9SF4-, ANO8-, PIP5K1C-, ARHGAP33-, MTMR2-, GALNT2-, TMEM110-KO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7"/>
          <p:cNvSpPr/>
          <p:nvPr/>
        </p:nvSpPr>
        <p:spPr>
          <a:xfrm>
            <a:off x="349200" y="6229440"/>
            <a:ext cx="1149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Abbreviations: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BB= brush border, ELY=endolysosomes, LY=lysosomes, MVI=microvillus inclusions, lat MV= lateral microvillar assemblies, par MV=paracellular microvillar clusters,                        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n.d.=not do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09:34:41Z</dcterms:created>
  <dc:creator>Hess Michael</dc:creator>
  <dc:description/>
  <dc:language>en-US</dc:language>
  <cp:lastModifiedBy>Hess Michael</cp:lastModifiedBy>
  <cp:lastPrinted>2022-03-31T14:10:46Z</cp:lastPrinted>
  <dcterms:modified xsi:type="dcterms:W3CDTF">2023-01-16T11:38:17Z</dcterms:modified>
  <cp:revision>27</cp:revision>
  <dc:subject/>
  <dc:title>PowerPoint-Präsentation</dc:title>
</cp:coreProperties>
</file>