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F0D-40F9-451A-BA13-5973A023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9A0-3283-4280-9846-A9FA6482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FBD-84E7-4574-B5E9-BBEFADED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2A5-A2A8-4975-AD35-27C0B666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77E-67EC-44D3-B08E-2CF1C04F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BCC-6CFA-4086-9DDF-3132A0D1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738-86A6-4409-A2FD-6C800439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AD6-FEB1-44D6-A677-4F47756B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680-E05B-426E-8B89-5BCB72E1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022-F1B2-4E84-8C55-1A3094A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A1D-C655-40CC-B3DB-152F856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504-63A4-4D70-B3F0-3613A3F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483E-FF9F-456E-970F-CFCE6782AE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5560" y="963720"/>
          <a:ext cx="10715760" cy="3755880"/>
        </p:xfrm>
        <a:graphic>
          <a:graphicData uri="http://schemas.openxmlformats.org/drawingml/2006/table">
            <a:tbl>
              <a:tblPr/>
              <a:tblGrid>
                <a:gridCol w="773280"/>
                <a:gridCol w="1515960"/>
                <a:gridCol w="1863720"/>
                <a:gridCol w="817560"/>
                <a:gridCol w="792360"/>
                <a:gridCol w="811080"/>
                <a:gridCol w="792000"/>
                <a:gridCol w="879480"/>
                <a:gridCol w="879480"/>
                <a:gridCol w="784440"/>
                <a:gridCol w="806400"/>
              </a:tblGrid>
              <a:tr h="495360">
                <a:tc gridSpan="3"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Co2-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9SF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P5K1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HGAP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TM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LN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EM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888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% of cell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 mislocal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9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29520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x3 mislocal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9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 &amp;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37116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Y : LY (endolysosome to lysosome 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: 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 : 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 :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 : 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 : 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 : 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 : 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 : 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58248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ganelle size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median diameter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 nanometer &amp; IQ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olysos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4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36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2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82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2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72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nm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24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77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3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2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8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3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8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14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6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30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ganelle s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sos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83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9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8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6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3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7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9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1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2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1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6"/>
          <p:cNvSpPr/>
          <p:nvPr/>
        </p:nvSpPr>
        <p:spPr>
          <a:xfrm>
            <a:off x="1488960" y="399960"/>
            <a:ext cx="9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henotype quantification of CaCo2-WT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versus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TM9SF4-, ANO8-, PIP5K1C-, ARHGAP33-, MTMR2-, GALNT2-, TMEM110-KO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7"/>
          <p:cNvSpPr/>
          <p:nvPr/>
        </p:nvSpPr>
        <p:spPr>
          <a:xfrm>
            <a:off x="882720" y="5057640"/>
            <a:ext cx="1037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Abbreviations: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ELY=endolysosomes, LY=lysosomes, MVI=microvillus inclusions, lat MV= lateral microvillar assemblies, par MV=paracellular microvillar clust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09:34:41Z</dcterms:created>
  <dc:creator>Hess Michael</dc:creator>
  <dc:description/>
  <dc:language>en-US</dc:language>
  <cp:lastModifiedBy>Hess Michael</cp:lastModifiedBy>
  <cp:lastPrinted>2022-12-27T09:29:47Z</cp:lastPrinted>
  <dcterms:modified xsi:type="dcterms:W3CDTF">2023-01-16T11:40:18Z</dcterms:modified>
  <cp:revision>31</cp:revision>
  <dc:subject/>
  <dc:title>PowerPoint-Präsentation</dc:title>
</cp:coreProperties>
</file>