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2E3-5387-4AE1-9008-10F9A99F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924-C000-4A27-BD85-ACE077E6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538-3B15-4235-AB17-B46C71DD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C38-E523-44FB-8961-FF49222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88D-1319-4D53-A85F-EA866DF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AA4-07AA-455C-B8AA-CA34682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88D-9BEC-472C-8FB3-10DEC95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6D0-8BAD-4CF6-90C5-5741C8C2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D2C-81F0-49E9-87A7-6965632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8CD-3CF1-4847-947B-A47BD55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AE4-B15D-4C41-BD29-6710B62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814-FB90-4B96-A8FE-6C867AE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386-9399-44E8-8C38-92A2AFE23D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5960" y="641520"/>
          <a:ext cx="11503080" cy="5068800"/>
        </p:xfrm>
        <a:graphic>
          <a:graphicData uri="http://schemas.openxmlformats.org/drawingml/2006/table">
            <a:tbl>
              <a:tblPr/>
              <a:tblGrid>
                <a:gridCol w="663840"/>
                <a:gridCol w="1371600"/>
                <a:gridCol w="1116000"/>
                <a:gridCol w="1265040"/>
                <a:gridCol w="1208160"/>
                <a:gridCol w="1036800"/>
                <a:gridCol w="1412640"/>
                <a:gridCol w="1149480"/>
                <a:gridCol w="1104840"/>
                <a:gridCol w="1174680"/>
              </a:tblGrid>
              <a:tr h="272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00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int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286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lu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sh border (B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20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ffuse sig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&amp; basolater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ical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e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lig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junctions: ZO-1, E-cadher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 (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7520" y="243000"/>
            <a:ext cx="91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descrip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349200" y="6229440"/>
            <a:ext cx="1149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BB= brush border, ELY=endolysosomes, LY=lysosomes, MVI=microvillus inclusions, lat MV= lateral microvillar assemblies, par MV=paracellular microvillar clusters,                       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n.d.=not 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03-31T14:10:46Z</cp:lastPrinted>
  <dcterms:modified xsi:type="dcterms:W3CDTF">2023-01-16T11:38:17Z</dcterms:modified>
  <cp:revision>27</cp:revision>
  <dc:subject/>
  <dc:title>PowerPoint-Präsentation</dc:title>
</cp:coreProperties>
</file>