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6FF-EFA7-4401-B957-521181FD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52F-CA02-4B64-ACE4-43D80DC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CBC-9835-4E35-AAEB-8EB0189B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F0D-8D5B-477E-8C75-A5C3A50D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980-6539-44D1-8F86-A4342DBD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CCA-D761-490E-B73E-277D1251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747-1F6F-47B2-9B9B-C74B2B4F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F0B-AE97-40C3-ABF1-242E723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46A-3B46-4226-91C1-1B2154BE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F25-BDE0-4C68-B017-DAFF1C6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76A-3C86-40F1-A992-A7DCD1E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299-C119-49E5-9F8B-2AB09CF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501D-3687-48A7-B21B-66DF7971E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963720"/>
          <a:ext cx="10715760" cy="3755880"/>
        </p:xfrm>
        <a:graphic>
          <a:graphicData uri="http://schemas.openxmlformats.org/drawingml/2006/table">
            <a:tbl>
              <a:tblPr/>
              <a:tblGrid>
                <a:gridCol w="773280"/>
                <a:gridCol w="1515960"/>
                <a:gridCol w="1863720"/>
                <a:gridCol w="817560"/>
                <a:gridCol w="792360"/>
                <a:gridCol w="811080"/>
                <a:gridCol w="792000"/>
                <a:gridCol w="879480"/>
                <a:gridCol w="879480"/>
                <a:gridCol w="784440"/>
                <a:gridCol w="806400"/>
              </a:tblGrid>
              <a:tr h="495360">
                <a:tc gridSpan="3"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88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% of cel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misloc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29520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 misloc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 &amp;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7116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Y : LY (endolysosome to lysosome 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: 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 : 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 :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 : 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 : 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 : 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 : 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 : 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5824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elle size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edian diameter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 nanometer &amp; IQ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4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2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82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2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72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nm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2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77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3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1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6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elle 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83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6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3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8960" y="399960"/>
            <a:ext cx="9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quantifica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882720" y="5057640"/>
            <a:ext cx="1037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ELY=endolysosomes, LY=lysosomes, MVI=microvillus inclusions, lat MV= lateral microvillar assemblies, par MV=paracellular microvillar clust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12-27T09:29:47Z</cp:lastPrinted>
  <dcterms:modified xsi:type="dcterms:W3CDTF">2023-01-16T11:40:18Z</dcterms:modified>
  <cp:revision>31</cp:revision>
  <dc:subject/>
  <dc:title>PowerPoint-Präsentation</dc:title>
</cp:coreProperties>
</file>