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78E-5FD4-464F-8155-2B98FE9A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A0F-24F9-4213-B7AF-69FC2807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35D-0FA6-4790-81CC-18D5FE17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2C8-CAA8-44DD-A901-C7EEAD85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519-3E6C-462F-BF81-6992C0F1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034-4CB0-44EE-AF42-4D179865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034-0CB4-4453-B506-E07C3024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A8D-A4CA-499C-A847-DE36688F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EA9-BD3C-4FD4-9E43-D14974D1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49C-9CDC-4DB0-82A6-4AF072C4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7CE-0729-4C81-80EA-672FF21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0FE-0354-481D-9FCB-A836AB7C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D459-69AE-4992-90DF-8AE05FABAD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5960" y="641520"/>
          <a:ext cx="11503080" cy="5068800"/>
        </p:xfrm>
        <a:graphic>
          <a:graphicData uri="http://schemas.openxmlformats.org/drawingml/2006/table">
            <a:tbl>
              <a:tblPr/>
              <a:tblGrid>
                <a:gridCol w="663840"/>
                <a:gridCol w="1371600"/>
                <a:gridCol w="1116000"/>
                <a:gridCol w="1265040"/>
                <a:gridCol w="1208160"/>
                <a:gridCol w="1036800"/>
                <a:gridCol w="1412640"/>
                <a:gridCol w="1149480"/>
                <a:gridCol w="1104840"/>
                <a:gridCol w="1174680"/>
              </a:tblGrid>
              <a:tr h="272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Co2-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9SF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O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P5K1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HGAP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TMR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LNT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MEM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7000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 inten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2860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st lu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3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ush border (B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tracellular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204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ffuse sig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d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 basolatera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/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F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M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mal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 subapic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apical &amp; basolateral organ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ical microvi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e 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atchy 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 pleomor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003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topic microvil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glig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, lat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topic junctions: ZO-1, E-cadher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olysosomes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j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g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ysosomes (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ical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ger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do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672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PP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Y, MVI, par 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M: 2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x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B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I, par MV, (EL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6"/>
          <p:cNvSpPr/>
          <p:nvPr/>
        </p:nvSpPr>
        <p:spPr>
          <a:xfrm>
            <a:off x="1487520" y="243000"/>
            <a:ext cx="91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henotype description of CaCo2-WT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versus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TM9SF4-, ANO8-, PIP5K1C-, ARHGAP33-, MTMR2-, GALNT2-, TMEM110-KO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7"/>
          <p:cNvSpPr/>
          <p:nvPr/>
        </p:nvSpPr>
        <p:spPr>
          <a:xfrm>
            <a:off x="349200" y="6229440"/>
            <a:ext cx="1149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Abbreviations: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BB= brush border, ELY=endolysosomes, LY=lysosomes, MVI=microvillus inclusions, lat MV= lateral microvillar assemblies, par MV=paracellular microvillar clusters,                        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n.d.=not do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09:34:41Z</dcterms:created>
  <dc:creator>Hess Michael</dc:creator>
  <dc:description/>
  <dc:language>en-US</dc:language>
  <cp:lastModifiedBy>Hess Michael</cp:lastModifiedBy>
  <cp:lastPrinted>2022-03-31T14:10:46Z</cp:lastPrinted>
  <dcterms:modified xsi:type="dcterms:W3CDTF">2023-01-16T11:38:17Z</dcterms:modified>
  <cp:revision>27</cp:revision>
  <dc:subject/>
  <dc:title>PowerPoint-Präsentation</dc:title>
</cp:coreProperties>
</file>