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796-3519-4793-A5E1-5C8A28A1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4BF-3F92-4081-B87E-D50CA0AC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8E1-FCA1-424A-AD4D-313F1CF4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2DE-DBC7-45F8-95D4-0B960892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3C8-0C0B-4279-B072-6D477731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6632-1485-430A-A178-EAB744FC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A6DD-5739-4A27-9A55-DCA90E7C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CA6-09A7-456E-9977-B3D5935F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F79-F63D-44E6-B530-CD9D3C7B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B47-DF1A-449E-A5A4-DA678773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453-3809-422F-A530-4137BA0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B9C-8B99-4739-AE59-FCD30A18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6292-107B-428C-B296-85B2292CA5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5560" y="963720"/>
          <a:ext cx="10715760" cy="3755880"/>
        </p:xfrm>
        <a:graphic>
          <a:graphicData uri="http://schemas.openxmlformats.org/drawingml/2006/table">
            <a:tbl>
              <a:tblPr/>
              <a:tblGrid>
                <a:gridCol w="773280"/>
                <a:gridCol w="1515960"/>
                <a:gridCol w="1863720"/>
                <a:gridCol w="817560"/>
                <a:gridCol w="792360"/>
                <a:gridCol w="811080"/>
                <a:gridCol w="792000"/>
                <a:gridCol w="879480"/>
                <a:gridCol w="879480"/>
                <a:gridCol w="784440"/>
                <a:gridCol w="806400"/>
              </a:tblGrid>
              <a:tr h="495360">
                <a:tc gridSpan="3"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Co2-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9SF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P5K1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HGAP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TM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LN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EM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888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% of cell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 mislocal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9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29520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x3 mislocaliz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9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 &amp;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1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37116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6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Frequ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LY : LY (endolysosome to lysosome 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 : 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 : 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 :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 : 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 : 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 : 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 : 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 : 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58248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ganelle size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(median diameter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in nanometer &amp; IQ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olysos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4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36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2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82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2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72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5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nm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24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77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3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2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78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3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8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14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spcBef>
                          <a:spcPts val="47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6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30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Organelle s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2000" rIns="72000" tIns="72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soso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83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9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8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6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m</a:t>
                      </a:r>
                      <a:br>
                        <a:rPr sz="1000"/>
                      </a:b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3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8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7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9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1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2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1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</a:t>
                      </a:r>
                      <a:br>
                        <a:rPr sz="1000"/>
                      </a:b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1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6"/>
          <p:cNvSpPr/>
          <p:nvPr/>
        </p:nvSpPr>
        <p:spPr>
          <a:xfrm>
            <a:off x="1488960" y="399960"/>
            <a:ext cx="9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henotype quantification of CaCo2-WT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versus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TM9SF4-, ANO8-, PIP5K1C-, ARHGAP33-, MTMR2-, GALNT2-, TMEM110-KO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7"/>
          <p:cNvSpPr/>
          <p:nvPr/>
        </p:nvSpPr>
        <p:spPr>
          <a:xfrm>
            <a:off x="882720" y="5057640"/>
            <a:ext cx="1037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Abbreviations: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ELY=endolysosomes, LY=lysosomes, MVI=microvillus inclusions, lat MV= lateral microvillar assemblies, par MV=paracellular microvillar clust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09:34:41Z</dcterms:created>
  <dc:creator>Hess Michael</dc:creator>
  <dc:description/>
  <dc:language>en-US</dc:language>
  <cp:lastModifiedBy>Hess Michael</cp:lastModifiedBy>
  <cp:lastPrinted>2022-12-27T09:29:47Z</cp:lastPrinted>
  <dcterms:modified xsi:type="dcterms:W3CDTF">2023-01-16T11:40:18Z</dcterms:modified>
  <cp:revision>31</cp:revision>
  <dc:subject/>
  <dc:title>PowerPoint-Präsentation</dc:title>
</cp:coreProperties>
</file>