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577-76AD-4734-886A-289E140B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689-49BF-49C4-AE6F-0AF50B66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D20-A292-44B5-BD2B-EF756D33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37D-4CB1-453D-AF7B-3DD2BFAB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C02-32DB-4301-896A-3A5FA155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496-AF54-42E6-B20D-07C27ED8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03A-0404-4EC0-8CAE-483D708B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57D-9BDC-4B93-9C79-C30C1752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AAD-72D5-4219-8125-8B9A6427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986-D6B6-472D-9FBB-94D823CC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531-6324-43B8-A91B-76956DB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DB0-6389-4B0A-BDCF-E42384C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8FA1-F7A1-4846-B70E-70ECEB6D89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5960" y="641520"/>
          <a:ext cx="11503080" cy="5068800"/>
        </p:xfrm>
        <a:graphic>
          <a:graphicData uri="http://schemas.openxmlformats.org/drawingml/2006/table">
            <a:tbl>
              <a:tblPr/>
              <a:tblGrid>
                <a:gridCol w="663840"/>
                <a:gridCol w="1371600"/>
                <a:gridCol w="1116000"/>
                <a:gridCol w="1265040"/>
                <a:gridCol w="1208160"/>
                <a:gridCol w="1036800"/>
                <a:gridCol w="1412640"/>
                <a:gridCol w="1149480"/>
                <a:gridCol w="1104840"/>
                <a:gridCol w="1174680"/>
              </a:tblGrid>
              <a:tr h="2728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Co2-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9SF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P5K1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HGAP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TM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LN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EM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7000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 inten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2860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3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st lu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3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ush border (B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204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ffuse sig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MP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&amp; basolater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ical microvi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e 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003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topic microvi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glig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topic junctions: ZO-1, E-cadher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olysosomes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j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sosomes (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67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6"/>
          <p:cNvSpPr/>
          <p:nvPr/>
        </p:nvSpPr>
        <p:spPr>
          <a:xfrm>
            <a:off x="1487520" y="243000"/>
            <a:ext cx="91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henotype description of CaCo2-WT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versus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TM9SF4-, ANO8-, PIP5K1C-, ARHGAP33-, MTMR2-, GALNT2-, TMEM110-KO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7"/>
          <p:cNvSpPr/>
          <p:nvPr/>
        </p:nvSpPr>
        <p:spPr>
          <a:xfrm>
            <a:off x="349200" y="6229440"/>
            <a:ext cx="1149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Abbreviations: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BB= brush border, ELY=endolysosomes, LY=lysosomes, MVI=microvillus inclusions, lat MV= lateral microvillar assemblies, par MV=paracellular microvillar clusters,                        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n.d.=not do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09:34:41Z</dcterms:created>
  <dc:creator>Hess Michael</dc:creator>
  <dc:description/>
  <dc:language>en-US</dc:language>
  <cp:lastModifiedBy>Hess Michael</cp:lastModifiedBy>
  <cp:lastPrinted>2022-03-31T14:10:46Z</cp:lastPrinted>
  <dcterms:modified xsi:type="dcterms:W3CDTF">2023-01-16T11:38:17Z</dcterms:modified>
  <cp:revision>27</cp:revision>
  <dc:subject/>
  <dc:title>PowerPoint-Präsentation</dc:title>
</cp:coreProperties>
</file>