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DF8F-565F-40FB-BC7E-CDC5B02F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7C54-9B1A-4FB0-90BE-4CD619E7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99C8-5811-43FB-B716-E3E7A006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DC0C-9854-45E7-9138-DEF58539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A88E-B940-4954-94D3-2FA12237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0494-A98B-4AD1-87B6-1BD808DD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A2A2-A875-42C9-B322-6D2C551F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224-EF91-4091-9EEC-3F55DF71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D9F4-5B6E-4F1E-94C9-8A7A4635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14AE-9C68-4D0B-BD39-5C6F69F5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7F55-5262-4531-9CC0-192C4E3C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786-E38A-40D5-AE4B-BFFDEF33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B14F-9943-4EAC-B740-AF2FFB9D2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38080" y="87480"/>
            <a:ext cx="8077320" cy="5879880"/>
            <a:chOff x="838080" y="87480"/>
            <a:chExt cx="8077320" cy="5879880"/>
          </a:xfrm>
        </p:grpSpPr>
        <p:pic>
          <p:nvPicPr>
            <p:cNvPr id="42" name="Picture 2" descr="A picture containing text, electronics&#10;&#10;Description automatically generated"/>
            <p:cNvPicPr/>
            <p:nvPr/>
          </p:nvPicPr>
          <p:blipFill>
            <a:blip r:embed="rId1"/>
            <a:stretch/>
          </p:blipFill>
          <p:spPr>
            <a:xfrm>
              <a:off x="884160" y="1147680"/>
              <a:ext cx="3721320" cy="18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1" descr="A picture containing text&#10;&#10;Description automatically generated"/>
            <p:cNvPicPr/>
            <p:nvPr/>
          </p:nvPicPr>
          <p:blipFill>
            <a:blip r:embed="rId2"/>
            <a:stretch/>
          </p:blipFill>
          <p:spPr>
            <a:xfrm>
              <a:off x="838080" y="4017960"/>
              <a:ext cx="364824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2" descr="A picture containing text, whiteboard&#10;&#10;Description automatically generated"/>
            <p:cNvPicPr/>
            <p:nvPr/>
          </p:nvPicPr>
          <p:blipFill>
            <a:blip r:embed="rId3"/>
            <a:stretch/>
          </p:blipFill>
          <p:spPr>
            <a:xfrm>
              <a:off x="4637160" y="990720"/>
              <a:ext cx="4278240" cy="20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7" descr="A picture containing text, white&#10;&#10;Description automatically generated"/>
            <p:cNvPicPr/>
            <p:nvPr/>
          </p:nvPicPr>
          <p:blipFill>
            <a:blip r:embed="rId4"/>
            <a:stretch/>
          </p:blipFill>
          <p:spPr>
            <a:xfrm>
              <a:off x="4851360" y="4114800"/>
              <a:ext cx="39132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53560" y="87480"/>
              <a:ext cx="376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ll unedited gel of Figure 5E (source data 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5-14T16:33:43Z</dcterms:created>
  <dc:creator>User</dc:creator>
  <dc:description/>
  <dc:language>en-US</dc:language>
  <cp:lastModifiedBy>User</cp:lastModifiedBy>
  <dcterms:modified xsi:type="dcterms:W3CDTF">2024-05-20T18:54:26Z</dcterms:modified>
  <cp:revision>10</cp:revision>
  <dc:subject/>
  <dc:title>Slide 1</dc:title>
</cp:coreProperties>
</file>